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7FA2-0A54-4343-839A-860476979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CB7E-FF13-42EE-ABC3-C556BD66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16FA-BD21-47B2-9C62-5E065E7E0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7148-B407-4AF6-87F9-CA5C4D319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A086-E35D-4809-836A-347B2492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C092-B438-45A0-9BB7-59C7439B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DD19-C1D3-4358-B27E-9F4B42D2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AD0C-0961-43A2-8162-973CBF4B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C0CF-A3FB-4173-9B0F-F53F5021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3F70-1A6A-486D-9E2E-DE53BBB4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4661-5ABD-438A-A9F5-A42FF098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3DF5-6EB9-460D-8965-FD71C9C9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62FD-2A8E-4971-94F9-4F62D9B194EF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2997360"/>
            <a:ext cx="6400800" cy="20160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ساد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استفادة وحدود الاستفادة من النسب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B26C-47D4-48B0-8DFF-6BAE8B49B571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879480"/>
            <a:ext cx="7772760" cy="69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تثمرو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56000" y="2421000"/>
            <a:ext cx="3697200" cy="85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قرارات شراء أو بيع الا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ب الربحية والسيو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12000" y="3747960"/>
            <a:ext cx="273672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صيب السهم من الارباح المحققة (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EPS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صا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في الرب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د الا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2200" y="3718080"/>
            <a:ext cx="2521080" cy="20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عائد الحقيقي لل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بلغ الموز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قي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ة السوق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32000" y="3716280"/>
            <a:ext cx="2592360" cy="208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ct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صيب السهم من التوز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وز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د الا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32720" y="50846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53000" y="50846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55720" y="49705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2FA1-5D16-4F4C-916E-D23E3CB2CF3B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809640"/>
            <a:ext cx="7772760" cy="786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دائنون والبنو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40000" y="2514600"/>
            <a:ext cx="446544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ب المساعدة على منح الائتمان من عدم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3930480"/>
            <a:ext cx="7488360" cy="223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سب القروض الى حقوق المساهم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ي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ب التداو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المب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ل دوران المخزو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ل دوران المدين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40E4-DFCD-4974-9D3A-D02AC5B742B7}" type="slidenum">
              <a:t>3</a:t>
            </a:fld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985680"/>
            <a:ext cx="7772760" cy="7167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دارة المنشأ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2416320"/>
            <a:ext cx="7775280" cy="367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نصيب السهم من الأربا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 العائد على حقوق الملك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المبي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قروض الى حقوق المساهم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رأس ال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الاص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AF11-B188-4BD2-AD81-CCA0418A98FB}" type="slidenum">
              <a:t>4</a:t>
            </a:fld>
          </a:p>
        </p:txBody>
      </p:sp>
    </p:spTree>
  </p:cSld>
  <p:transition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1275840"/>
            <a:ext cx="7772760" cy="715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احص الضريب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900520"/>
            <a:ext cx="8001000" cy="2328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استرشاد بالنسب المالية للمساعدة على الاطمئنان الى صحة النتائ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ف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حص الرواتب ومقارنتها باجمالي الدخل ومقارنتها مع السنة الساب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51A3-CC10-405B-B565-67D6C7285CB4}" type="slidenum">
              <a:t>5</a:t>
            </a:fld>
          </a:p>
        </p:txBody>
      </p:sp>
    </p:spTree>
  </p:cSld>
  <p:transition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1956960"/>
            <a:ext cx="7772760" cy="740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راجع الخارج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3429000"/>
            <a:ext cx="784836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اعدة في ابداء الرأ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95AE-D4D4-47BD-9890-613ADF257638}" type="slidenum">
              <a:t>6</a:t>
            </a:fld>
          </a:p>
        </p:txBody>
      </p:sp>
    </p:spTree>
  </p:cSld>
  <p:transition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1915920"/>
            <a:ext cx="7772760" cy="72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خيرا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500280"/>
            <a:ext cx="7775280" cy="12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استفادة من النسب المالية في الت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ب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ؤ بنجاح أو ف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90C4-A3CF-4620-AF57-78D6B04BB1DF}" type="slidenum">
              <a:t>7</a:t>
            </a:fld>
          </a:p>
        </p:txBody>
      </p:sp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907920"/>
            <a:ext cx="7772400" cy="1081080"/>
          </a:xfrm>
          <a:prstGeom prst="downArrowCallout">
            <a:avLst>
              <a:gd name="adj1" fmla="val -177836"/>
              <a:gd name="adj2" fmla="val 179737"/>
              <a:gd name="adj3" fmla="val 16667"/>
              <a:gd name="adj4" fmla="val 6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دود الاستفادة من التحليل المال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4360" y="2205000"/>
            <a:ext cx="7775280" cy="374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سياسات والطرق المحاسب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بيئ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حجم المشرو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صناع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طبيعة النسب المالية وتركيبت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التوقي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محلل المالي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مستفيدين من التحليل المال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286A-11BE-41A4-9300-CD87A0006CD3}" type="slidenum">
              <a:t>8</a:t>
            </a:fld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8T01:57:27Z</dcterms:modified>
  <cp:revision>28</cp:revision>
  <dc:subject/>
  <dc:title>التحليل المالي والائتماني</dc:title>
</cp:coreProperties>
</file>